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png" ContentType="image/png"/>
  <Override PartName="/ppt/media/image17.jpeg" ContentType="image/jpeg"/>
  <Override PartName="/ppt/media/image16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5BAE-EA11-4FC6-A35E-92B8E157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98C8-B0AF-48AF-A475-D9DF89DC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46CE-6A8A-4427-A265-3E667007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0572-5707-4FD8-A764-E0EB1E516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7DCAE-AEE0-4CBE-9E02-ACA9DA42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D6181-5A40-4C28-906D-EE43280C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74998-7386-4CF6-94DB-AD766178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E704B-F914-4E4C-8010-307ABB35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BC64D-ECC6-4330-A94A-A19BA86B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A942C-C38D-4E66-B6B8-28FB5E7F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B5949-42B5-4C9D-9EFA-3E8CAB97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7553-5E30-414D-AF96-09584FFB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490BE-9586-4628-824C-82E018EF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58BE3-D20B-4A1D-B500-278CB5D8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702FF-BD5E-4700-AF81-72D63AF0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DC598-DAF3-49C2-BA56-09170D6E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10FFB-7759-4E57-9810-AA38E4584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DBEF-524F-4423-8CF9-594230F7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6DD0-E4AA-4799-A119-E047A0AF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75D8-26CF-4D72-AF2C-3F53FFD5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8838-61EB-4A80-9F79-5F7324E9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51AF-52F0-488A-B0CD-6A913C7A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3C20-D390-4C7C-90E3-29DF6E51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D654-E6C5-48F5-BE0B-529EA08D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562C-4D47-4D88-A72F-4C71B39B1B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906E-7BD7-44AC-A647-E8DC1830EF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Henry_Hudson_s_Explorations.asf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Hudson River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29528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ten by , Davon Brown, Passion Brooks, Jamya Whitsey, and Keirston Spiewa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ew Amsterda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3962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624  Dutch settlers began  building  the town of  New Amsterd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this spot the Dutch could  control  trade on the Hudson Ri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location helped New Amsterdam become the biggest and most Important Dutch sette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Rectangle 23" descr=""/>
          <p:cNvPicPr/>
          <p:nvPr/>
        </p:nvPicPr>
        <p:blipFill>
          <a:blip r:embed="rId1"/>
          <a:stretch/>
        </p:blipFill>
        <p:spPr>
          <a:xfrm>
            <a:off x="5079960" y="1814400"/>
            <a:ext cx="3175200" cy="406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udson Riv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honor  of  Henry  Hudson  the  river   was   later  named  Hudson Ri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udson river  has  lots of waterfalls  and  rapi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Rectangle 23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289584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p  of Hudson Ba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4" name="Picture 4" descr="HudsonBay"/>
          <p:cNvPicPr/>
          <p:nvPr/>
        </p:nvPicPr>
        <p:blipFill>
          <a:blip r:embed="rId1"/>
          <a:stretch/>
        </p:blipFill>
        <p:spPr>
          <a:xfrm>
            <a:off x="609480" y="1523880"/>
            <a:ext cx="8239320" cy="421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udson Valle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6" name="Rectangle 23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295960" cy="35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mage of the Lower Huds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8" name="Rectangle 23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5410080" cy="7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ew Amsterdam Grow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help their colony grow the Dutch encouraged people from many countries to settle in New Netherl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lers arrived from Belgium France Germany Finland Norway and many other countrie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Amsterdam became a thriving town with a diverse pop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ovie Ti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enry_Hudson_s_Explorations.as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Rectangle 23" descr=""/>
          <p:cNvPicPr/>
          <p:nvPr/>
        </p:nvPicPr>
        <p:blipFill>
          <a:blip r:embed="rId2"/>
          <a:stretch/>
        </p:blipFill>
        <p:spPr>
          <a:xfrm>
            <a:off x="5715000" y="1981080"/>
            <a:ext cx="251460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p close Map of Hudson Ba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5" name="Rectangle 23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386320" cy="53737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lban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7" name="Rectangle 23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4000320" cy="30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Hudson  Explor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nry Hudson explored the Hudson River in 160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Rectangle 23" descr=""/>
          <p:cNvPicPr/>
          <p:nvPr/>
        </p:nvPicPr>
        <p:blipFill>
          <a:blip r:embed="rId1"/>
          <a:stretch/>
        </p:blipFill>
        <p:spPr>
          <a:xfrm>
            <a:off x="800280" y="1790640"/>
            <a:ext cx="33526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amuel de Champlai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nch Navigator, born in Brouage Saintonge, on the bay  of Bisc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608, Champlain founded the French Colony of Quebec on the St. Lawrence Riv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mplain sailed up a wide river, hoping it would prove to be Northwest Pass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23" descr="Samuel-de-champlain-s"/>
          <p:cNvPicPr/>
          <p:nvPr/>
        </p:nvPicPr>
        <p:blipFill>
          <a:blip r:embed="rId1"/>
          <a:stretch/>
        </p:blipFill>
        <p:spPr>
          <a:xfrm>
            <a:off x="1295280" y="1828800"/>
            <a:ext cx="2438640" cy="39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orthwest Pass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orthwest Passage is a waterway connecting the Atlantic and Pacific Ocea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orers had been searching for a Northwest Passage for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one ever found the Northwest Passage because one does not exi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uel Champlain was the man that found the Northwest Pass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7" descr="northwest-passage"/>
          <p:cNvPicPr/>
          <p:nvPr/>
        </p:nvPicPr>
        <p:blipFill>
          <a:blip r:embed="rId1"/>
          <a:stretch/>
        </p:blipFill>
        <p:spPr>
          <a:xfrm>
            <a:off x="4648320" y="2430360"/>
            <a:ext cx="4038480" cy="28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bec On St.Lawrences Riv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proved  to  be  a good  location  for  a                                                         colony because  millions  of  beavers lived  in  the  forests  of   this  reg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bec  quickly  developed  into  a  thriving  trading  cen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 traded furs  for European  goods.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Rectangle 23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29894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nry  Huds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1609  Dutch  leaders  sent an  English         sea  captain  named  Henry Hudson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udson  sailed  up  a  wide  river, hoping it  would  prove  to  be  the  Northwest  pass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609   Henry Hudson   sailed  up  the  Hudson  River  and  claimed  the  land  for  the  Dutc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In  honor of  Henry Hudson  the         river  was  later  named  Hudson R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18" descr="henry-hudson"/>
          <p:cNvPicPr/>
          <p:nvPr/>
        </p:nvPicPr>
        <p:blipFill>
          <a:blip r:embed="rId1"/>
          <a:stretch/>
        </p:blipFill>
        <p:spPr>
          <a:xfrm>
            <a:off x="5562720" y="2057400"/>
            <a:ext cx="26240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ew Fran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  French   started  other   colonies  in North America  including town  Montre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These French colonies were called New Fr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2009-09-04-Picture89"/>
          <p:cNvPicPr/>
          <p:nvPr/>
        </p:nvPicPr>
        <p:blipFill>
          <a:blip r:embed="rId1"/>
          <a:stretch/>
        </p:blipFill>
        <p:spPr>
          <a:xfrm>
            <a:off x="4648320" y="1727280"/>
            <a:ext cx="4038480" cy="424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ew Netherla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utch colonies in North America became known  as  New Netherla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ew Netherlands  is  another name  for Holland  the  country of  Du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Rectangle 23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038480" cy="326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Half Mo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laf Moon was a Bo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nry Hudson Sailed on the Half Mo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alf Moon was very important to Henry Huds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Rectangle 23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3124440" cy="27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Seal of New Netherlan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6" name="Rectangle 23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3429000" cy="3284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5:08:47Z</dcterms:created>
  <dc:creator>student</dc:creator>
  <dc:description/>
  <dc:language>en-US</dc:language>
  <cp:lastModifiedBy>student</cp:lastModifiedBy>
  <dcterms:modified xsi:type="dcterms:W3CDTF">2010-03-01T15:26:36Z</dcterms:modified>
  <cp:revision>18</cp:revision>
  <dc:subject/>
  <dc:title>Hudson River</dc:title>
</cp:coreProperties>
</file>